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EFD-F6A0-47D4-BAD1-B7A8C721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560" y="351756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40F2-7EBC-4179-B3B1-ECBF2118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3512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EEF-2627-4838-8C87-0E976655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4668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4544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56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4668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4544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02A-BF00-4F09-8995-E77D3498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C19F-B646-44CF-8B61-02C716CE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892D-0DB9-4FFD-ABFE-2E712A06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8E9F-FD84-4C4D-9A2A-903CD3B4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1CED-255E-4EBF-BB0C-A0EB1B3B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6BCB-D4E0-46A8-8A0E-7532EB6F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0D80-1661-4C92-9D98-7EC7A166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50E6-FD35-4157-A618-C825061E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6C87-6AEC-47E8-BA2E-53F28449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3512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A96A-FFB9-497C-AAEB-2E167E8F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D5F7-537C-455C-90B9-C8858196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47560" y="351756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C792-9B74-4D96-A2FC-C485E424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3512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9D21-AF2F-463D-A632-9421DDE0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4668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4544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4756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4668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4544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7322-6ACD-41DF-9AFC-1FEB616F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619-2035-4D8B-9701-6A4156BA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266-3D73-404F-8DE5-74D2361C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AA1-AC35-404B-A923-B180C00D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615-A5CC-4747-BCAD-DFAE1527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344-C138-425B-BA4D-E4471BCF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3512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489-D71D-4D95-9034-5B334D18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9183-EF62-4175-960B-D2D2A52C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s-wiki.de/mediawiki/index.php/Hauptseite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3160" y="1244520"/>
            <a:ext cx="82267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799"/>
              </a:spcBef>
              <a:buClr>
                <a:srgbClr val="8cfe0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73520" indent="-2178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73520" indent="-2178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73520" indent="-2178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Projekt Wi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96CA-9F25-4163-927D-FBE9F4C1F2EE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Bs-wiki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" y="304920"/>
            <a:ext cx="1543320" cy="141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774800" y="762120"/>
            <a:ext cx="69264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Projekt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8cf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cfe0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5B62-CB17-4632-B080-6EDC9C317CB5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de.wikipedia.org/wiki/Hauptseite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s-wiki.de/mediawiki/index.php/Kraftfahrzeugmechatroniker" TargetMode="External"/><Relationship Id="rId2" Type="http://schemas.openxmlformats.org/officeDocument/2006/relationships/hyperlink" Target="http://www.bs-wiki.de/mediawiki/index.php/Kraftfahrzeugmechatroniker" TargetMode="External"/><Relationship Id="rId3" Type="http://schemas.openxmlformats.org/officeDocument/2006/relationships/hyperlink" Target="http://www.bs-wiki.de/mediawiki/index.php/Kategorie:Entwicklung_und_Konstruktion" TargetMode="External"/><Relationship Id="rId4" Type="http://schemas.openxmlformats.org/officeDocument/2006/relationships/hyperlink" Target="http://www.bs-wiki.de/mediawiki/index.php/Benutzer:Anthony" TargetMode="External"/><Relationship Id="rId5" Type="http://schemas.openxmlformats.org/officeDocument/2006/relationships/hyperlink" Target="http://www.bs-wiki.de/mediawiki/index.php/FSM2-2003" TargetMode="External"/><Relationship Id="rId6" Type="http://schemas.openxmlformats.org/officeDocument/2006/relationships/hyperlink" Target="http://www.bs-wiki.de/mediawiki/index.php/Ausbildungsbetriebe" TargetMode="External"/><Relationship Id="rId7" Type="http://schemas.openxmlformats.org/officeDocument/2006/relationships/hyperlink" Target="http://www.bs-wiki.de/mediawiki/index.php/Schulrecht" TargetMode="External"/><Relationship Id="rId8" Type="http://schemas.openxmlformats.org/officeDocument/2006/relationships/hyperlink" Target="http://www.bs-wiki.de/mediawiki/index.php/Kategorie:Arbeitsbl&#228;tter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Startbi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-304920" y="-152280"/>
            <a:ext cx="9448920" cy="716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ournesol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578560" cy="563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50FC-CA04-4D3F-8B1A-4C5C9A52E7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Log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23880" y="1828800"/>
            <a:ext cx="632484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3240">
                  <a:solidFill>
                    <a:srgbClr val="5f5f5f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dddddd"/>
                  </a:outerShdw>
                </a:effectLst>
                <a:latin typeface="Arial Unicode MS"/>
              </a:rPr>
              <a:t>[[      ]]</a:t>
            </a:r>
            <a:endParaRPr b="1" lang="en-US" sz="9600" spc="1" strike="noStrike">
              <a:ln w="3240">
                <a:solidFill>
                  <a:srgbClr val="5f5f5f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dddddd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14600" y="4114800"/>
            <a:ext cx="426708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24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40186" dir="20503642" blurRad="0" rotWithShape="0">
                    <a:srgbClr val="dddddd"/>
                  </a:outerShdw>
                </a:effectLst>
                <a:latin typeface="Arial Unicode MS"/>
              </a:rPr>
              <a:t>Wissen teilen.</a:t>
            </a:r>
            <a:endParaRPr b="1" lang="en-US" sz="4000" spc="1" strike="noStrike">
              <a:ln w="324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40186" dir="20503642" blurRad="0" rotWithShape="0">
                  <a:srgbClr val="dddddd"/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101" name="Tournesol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578560" cy="5635800"/>
          </a:xfrm>
          <a:prstGeom prst="rect">
            <a:avLst/>
          </a:prstGeom>
          <a:ln w="0">
            <a:noFill/>
          </a:ln>
          <a:effectLst>
            <a:outerShdw dist="77353" dir="562478" blurRad="0" rotWithShape="0">
              <a:srgbClr val="eaeaea"/>
            </a:outerShdw>
          </a:effectLst>
        </p:spPr>
      </p:pic>
      <p:sp>
        <p:nvSpPr>
          <p:cNvPr id="102" name=""/>
          <p:cNvSpPr txBox="1"/>
          <p:nvPr/>
        </p:nvSpPr>
        <p:spPr>
          <a:xfrm>
            <a:off x="2300400" y="1038240"/>
            <a:ext cx="47242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5f5f5f"/>
                  </a:solidFill>
                  <a:miter/>
                </a:ln>
                <a:solidFill>
                  <a:srgbClr val="ff0000"/>
                </a:solidFill>
                <a:effectLst>
                  <a:outerShdw dist="45929" dir="19571123" blurRad="0" rotWithShape="0">
                    <a:srgbClr val="dddddd"/>
                  </a:outerShdw>
                </a:effectLst>
                <a:latin typeface="Arial Unicode MS"/>
              </a:rPr>
              <a:t>Projekt Wiki</a:t>
            </a:r>
            <a:endParaRPr b="1" lang="en-US" sz="2400" spc="1" strike="noStrike">
              <a:ln w="3240">
                <a:solidFill>
                  <a:srgbClr val="5f5f5f"/>
                </a:solidFill>
                <a:miter/>
              </a:ln>
              <a:solidFill>
                <a:srgbClr val="ff0000"/>
              </a:solidFill>
              <a:effectLst>
                <a:outerShdw dist="45929" dir="19571123" blurRad="0" rotWithShape="0">
                  <a:srgbClr val="dddddd"/>
                </a:outerShdw>
              </a:effectLst>
              <a:latin typeface="Arial Unicode MS"/>
              <a:ea typeface="Arial Unicode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067280" y="104760"/>
          <a:ext cx="12189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04760"/>
                    <a:ext cx="12189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35E-5485-46D2-B92E-6C31B4549325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4496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Glieder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as ist ein Wiki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arum ein Wiki an der BBS Wins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elche Anwendungsbeispiele &amp; Erfahrungswerte liegen v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e kann ich mitmach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Hilfe" descr="Bild:Hilfe.png"/>
          <p:cNvPicPr/>
          <p:nvPr/>
        </p:nvPicPr>
        <p:blipFill>
          <a:blip r:embed="rId1"/>
          <a:srcRect l="0" t="0" r="60527" b="0"/>
          <a:stretch/>
        </p:blipFill>
        <p:spPr>
          <a:xfrm>
            <a:off x="7894800" y="30492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A57-48EE-4896-9DD5-C594384ECD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Keyboard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703680" cy="2422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447560" y="195552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ki = hawaiianisch "schnel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ternetseiten, die mit einfachsten Mitteln erstellt werden könn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rundprinzip: Alle Nutzer können Informationen lesen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und bearbeite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ispiel: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2"/>
              </a:rPr>
              <a:t>Wikip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790640" y="4776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achtei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473120" y="1485720"/>
            <a:ext cx="5399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ahoma"/>
              </a:rPr>
              <a:t>Was ist ein Wiki?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954E-A82B-44FE-A695-5F9600A85A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ahoma"/>
              </a:rPr>
              <a:t>Warum ein Wiki an der BBS Winsen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lement für Unterrichtsgestalt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örderung der Schülereigenaktivität, individuelle Förderung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ransparenz von Inhalten, Strukturen und Metho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formations-P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bbs_pic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410080" y="3846600"/>
            <a:ext cx="3733920" cy="301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AEC3-6A8D-4B8C-B3AD-68C0E94CD0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47920" y="14479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Anwendungsbeispiele &amp; Erfahrungswe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S: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1"/>
              </a:rPr>
              <a:t>Kfz-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2"/>
              </a:rPr>
              <a:t>Mechatroniker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G: Chem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S-Metall: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3"/>
              </a:rPr>
              <a:t>Entwicklung &amp; Konstruk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4"/>
              </a:rPr>
              <a:t>Schüler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- &amp;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5"/>
              </a:rPr>
              <a:t>Klassensei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Linklisten, z. B.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6"/>
              </a:rPr>
              <a:t>Ausbildungsbetrieb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7"/>
              </a:rPr>
              <a:t>Schulrech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, Wiki-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8"/>
              </a:rPr>
              <a:t>Arbeitsblätter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hinterle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6ECE-EE16-44CB-A72E-8E86B920E9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Schilf" descr=""/>
          <p:cNvPicPr/>
          <p:nvPr/>
        </p:nvPicPr>
        <p:blipFill>
          <a:blip r:embed="rId1"/>
          <a:srcRect l="0" t="0" r="10129" b="11049"/>
          <a:stretch/>
        </p:blipFill>
        <p:spPr>
          <a:xfrm>
            <a:off x="1706400" y="1336680"/>
            <a:ext cx="7437600" cy="55213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828800" y="14479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ffffff"/>
                </a:solidFill>
                <a:latin typeface="Tahoma"/>
              </a:rPr>
              <a:t>Mitmachen!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selbst ausprobieren: Wiki-Hilfe nut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Teilnahme an schulinterner Lehrer-Fortbildung (SchiL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A2A-8E29-47FB-BB64-42540F06D2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304920" y="-152280"/>
            <a:ext cx="9448920" cy="716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ournesol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578560" cy="5635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350496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Vielen Dank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DA55-B045-40EF-B281-57CD3D3F67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13:55:57Z</dcterms:created>
  <dc:creator>Detlef Giesler</dc:creator>
  <dc:description/>
  <dc:language>en-US</dc:language>
  <cp:lastModifiedBy>a</cp:lastModifiedBy>
  <dcterms:modified xsi:type="dcterms:W3CDTF">2007-02-14T16:11:01Z</dcterms:modified>
  <cp:revision>56</cp:revision>
  <dc:subject/>
  <dc:title>Projekt Wiki an der BBS Winsen</dc:title>
</cp:coreProperties>
</file>